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2E258-42F3-4D8D-B5E3-B66EAD071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8B0C2-C0CC-44F9-99FF-184DB0989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4579D-07D8-494E-9AA1-9C4A2993A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A6817-9FC2-4D8F-A03B-D678AC1BC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D91672-C6FF-48A2-B8F5-0C702B800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CAEBC7-5DD2-492C-8B9A-A5254A983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27AAB4-7D09-418D-8204-21C441617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618286-E3B6-4864-9A06-F36D24DF4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C16B4B-7547-48B6-975D-3C96E7BD8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5BAF83-0A91-4EE2-B95A-037CD18E2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57F7D9-4383-4AA5-A07D-8776B8C13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EF63E-E410-4D95-A541-78A7E1CB6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DF4A5C-6CA2-4B4F-9C58-E0455E50C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3AFD2B-590C-4EBF-9F90-0B44560B5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B63A34-B843-4F91-8572-5E9F9A085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8533C9-104F-47A9-BC77-2CDF0E00F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4063F6-27B4-4998-82AA-8ABFF625D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20AA7-32C2-4A63-9EE0-D89A844B6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CF89A-88EF-46CF-B90C-C27A3006D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7E8A3-4659-44FF-9BDC-D8D488C60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FDC0B-980E-487D-9488-143A97E28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E896D-5339-48DE-86F7-EB3BC1AB9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12DDC-FA0F-4927-B733-EC1AD7212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241E1-C2E5-4DA0-B2E9-571B37F19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D46CD-7E28-4446-84F2-133C529BE67C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2DAEE-8249-4853-9B96-7FC15054EB23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Влияние алкоголя на головной мозг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ыполнила ученица 9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”a”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класс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аракчиева Людмил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Цель: познакомиться с влиянием алкоголя на головной мозг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Задача: изучить влияние алкоголя на головной мозг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Человеческий мозг состоит из 15 миллиардов нервных клеток (нейронов). Каждую клеточку питает кровью свой микрокапилляр. Этот микрокапилляр настолько тоненький, что для нормального питания данного нейрона эритроциты могут протискиваться только в одни ряд. И когда к основанию микрокапилляра подходит алкогольная склейка эритроцитов, то она его закупоривает, проходит 7-9 минут — и очередная клетка мозга человека безвозвратно погибает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1652760" y="1103400"/>
            <a:ext cx="5837040" cy="410508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следствие того, что кислород прекращает поступать к клеткам головного мозга, начинается гипоксия, то есть кислородное голодание (кислородная недостаточность). Именно гипоксия и воспринимается человеком как якобы безобидное состояние опьянения. И это приводит к онемению, а потом и отмиранию участков головного мозга. Всё это субъективно воспринимается выпившим как «расслабление», «свобода» от внешнего мира, схожая с эйфорией освобождающегося из тюрьмы после долгого сидения. В действительности просто часть головного мозга искусственно отключается от восприятия зачастую «неприятной» информации извне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менно в мозгу обнаруживаются наибольшие изменения при вскрытии. Твердая мозговая оболочка напряжена, мягкие оболочки отечны, полнокровны. Головной мозг резко отечен, сосуды расширены, множество мелких кист диаметром 1-2 мм. Эти мелкие кисты образовались в местах кровоизлияний и некроза (омертвления) участков вещества мозг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2700360" y="3933720"/>
            <a:ext cx="3571920" cy="23814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0" y="476280"/>
            <a:ext cx="914400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сле каждой так называемой «умеренной» выпивки у человека в голове появляется новое кладбище погибших нервных клеток (нейронов). И когда врачи-патологоанатомы вскрывают череп любого так называемого «умеренно пьющего» человека, то у всех видят одинаковую картину — «сморщенный мозг», меньший в объёме, вся поверхность коры которого — в микрорубцах, микроязвах, выпадах структур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09-12-03T15:52:06Z</dcterms:modified>
  <cp:revision>3</cp:revision>
  <dc:subject/>
  <dc:title>PowerPoint Presentation</dc:title>
</cp:coreProperties>
</file>